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A251-47C9-4511-8C7C-FAEDFA2E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A29-FAD9-4391-BB97-5053085A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58E-0F67-4B5E-B4B8-A7D80A1C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D12-31AD-4F96-92F8-5FE120EA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A407-E45A-403D-B60F-06274CEF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A37D-FC26-422F-8513-E5FEB5FD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9973-2476-4321-BEB9-62957900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711D-4EB7-4633-BD42-151DA462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FAA4-D74F-40A8-BD1E-E5E92F27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78A2-4934-4968-981A-2AB63BDA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79F2-8EE1-4C52-8BDE-BEE5CCD4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A64-0A04-4821-AF58-CBF48030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8261-172C-42F5-BB90-948AAAF0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9951-C02D-4322-84C3-3300C982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0432-E459-486E-AA9E-634BF7E1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77C1-B44E-4557-A11E-63174365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41EF-8AA5-4E45-ADE9-297AC2AA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B917E-83B2-451B-9A3D-49F31F91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3D9F4-D576-4242-A1AB-B6E81CE4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E5924-D996-4D84-8855-09DAA3A8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14588-CD5C-484A-BB2A-9EEA58B6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2895F-5CD0-49D4-B213-74F98130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695-9B0A-435C-A22E-08A61AF3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E2CC3-4F83-4C77-83B4-7B41CD11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98788-4D57-4EB0-A09B-D014A03E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D5B10-1271-4471-8845-61CEB69B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67E2B-12B4-449E-BC2F-C7CC9562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62659-7034-46BE-8C66-E08DC420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ED20E-7936-422E-B486-6233C601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325D2-DCB1-4805-96B2-4A8A2EF1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331F1-4FB1-45D0-8339-5909F660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BD45D-3125-472A-AFCC-68994980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8EF38-D5F9-4D6C-9339-8E3CCE11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A43-F00E-400A-9BE1-E48A687A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DFC8A-D50F-47AF-A710-616EBB40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77D8D-2E9F-4D7E-9C39-5E76BE3A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D6D9B-BE03-47FD-80B7-B352AAEB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0AABA-AA2C-450B-981D-26FB475D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B3670-E48B-4F1C-8185-957BC45E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B1925-6A56-405B-A0E8-903B11DA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1A935-86CC-4A1B-909D-02AB50A5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ABD4B-D2F1-4415-BF19-38428F31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E3238-0457-461D-9691-1356C642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B77-F143-4819-9AF4-89C06D2A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938-2643-4C77-95F8-8CF20958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9B4-741C-4876-9515-B2C0679A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DAC6-6AE2-4889-8EEC-9F45F80F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6234-AD3B-49AD-ADED-E5398344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C3D7-AC3F-4DD2-ABA4-6675C9B175B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814B-3DEA-4DBF-823B-7D5BBAA6140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5513-3DB6-4D9A-B586-A12EF054447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450C-B7DE-4DEE-93FD-0FDF7F8E4A5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95320" y="8650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716360" y="6153120"/>
            <a:ext cx="3959280" cy="704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втор: Оборин Никит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5" descr="C:\Users\Никита\Desktop\distancionnaya-ucheba.jpg"/>
          <p:cNvPicPr/>
          <p:nvPr/>
        </p:nvPicPr>
        <p:blipFill>
          <a:blip r:embed="rId2"/>
          <a:stretch/>
        </p:blipFill>
        <p:spPr>
          <a:xfrm>
            <a:off x="468360" y="2276640"/>
            <a:ext cx="41749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 rot="21116400">
            <a:off x="479520" y="1065240"/>
            <a:ext cx="398304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Ты молодой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Box 5"/>
          <p:cNvSpPr/>
          <p:nvPr/>
        </p:nvSpPr>
        <p:spPr>
          <a:xfrm rot="21100800">
            <a:off x="380520" y="2046960"/>
            <a:ext cx="6958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Ты хочешь достойного обучени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7"/>
          <p:cNvSpPr/>
          <p:nvPr/>
        </p:nvSpPr>
        <p:spPr>
          <a:xfrm rot="583800">
            <a:off x="3884760" y="2942280"/>
            <a:ext cx="5632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Ты хочешь иметь возможность самореализаци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 rot="636600">
            <a:off x="4759200" y="1016280"/>
            <a:ext cx="4167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Тебя волнует твоё будуще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900000" y="2781360"/>
            <a:ext cx="7561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Надо действовать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Прямоугольник 9" descr=""/>
          <p:cNvPicPr/>
          <p:nvPr/>
        </p:nvPicPr>
        <p:blipFill>
          <a:blip r:embed="rId1"/>
          <a:stretch/>
        </p:blipFill>
        <p:spPr>
          <a:xfrm>
            <a:off x="2919240" y="2279520"/>
            <a:ext cx="3157560" cy="19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C:\Users\Никита\Desktop\spa's_Wallpapers_pack_015-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Содержимое 3" descr=""/>
          <p:cNvPicPr/>
          <p:nvPr/>
        </p:nvPicPr>
        <p:blipFill>
          <a:blip r:embed="rId2"/>
          <a:stretch/>
        </p:blipFill>
        <p:spPr>
          <a:xfrm>
            <a:off x="304920" y="3108240"/>
            <a:ext cx="8265960" cy="379260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6" descr=""/>
          <p:cNvPicPr/>
          <p:nvPr/>
        </p:nvPicPr>
        <p:blipFill>
          <a:blip r:embed="rId3"/>
          <a:stretch/>
        </p:blipFill>
        <p:spPr>
          <a:xfrm>
            <a:off x="407880" y="133200"/>
            <a:ext cx="8328240" cy="115272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7" descr=""/>
          <p:cNvPicPr/>
          <p:nvPr/>
        </p:nvPicPr>
        <p:blipFill>
          <a:blip r:embed="rId4"/>
          <a:stretch/>
        </p:blipFill>
        <p:spPr>
          <a:xfrm>
            <a:off x="1755720" y="1212840"/>
            <a:ext cx="5462640" cy="1152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Никита\Desktop\12247849541307080526radacina_cursor_hand-svg-hi.png"/>
          <p:cNvPicPr/>
          <p:nvPr/>
        </p:nvPicPr>
        <p:blipFill>
          <a:blip r:embed="rId5"/>
          <a:stretch/>
        </p:blipFill>
        <p:spPr>
          <a:xfrm>
            <a:off x="3780000" y="7029360"/>
            <a:ext cx="99504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03704E-006 C -0.0033 -0.06089 -0.0066 -0.12153 0.00122 -0.15857 C 0.00903 -0.19561 0.01684 -0.19931 0.04635 -0.22223 C 0.07587 -0.24515 0.14792 -0.28149 0.17865 -0.29677 C 0.20938 -0.31204 0.22222 -0.31042 0.2309 -0.31413 E">
                                      <p:cBhvr>
                                        <p:cTn id="90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68360" y="1557360"/>
            <a:ext cx="8229600" cy="25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азав «Нет», ты проявляешь свою пассивность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азав «Нет», ты отказываешься помогать государству в улучшении твоей жизни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азав «Нет», ты тот, кто добровольно позволяет другим определять твоё будущее и будущее страны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Прямоугольник 3" descr=""/>
          <p:cNvPicPr/>
          <p:nvPr/>
        </p:nvPicPr>
        <p:blipFill>
          <a:blip r:embed="rId1"/>
          <a:stretch/>
        </p:blipFill>
        <p:spPr>
          <a:xfrm>
            <a:off x="2766960" y="-30240"/>
            <a:ext cx="3133800" cy="1663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C:\Users\Никита\Desktop\erterth.jpg"/>
          <p:cNvPicPr/>
          <p:nvPr/>
        </p:nvPicPr>
        <p:blipFill>
          <a:blip r:embed="rId2"/>
          <a:stretch/>
        </p:blipFill>
        <p:spPr>
          <a:xfrm>
            <a:off x="4859280" y="4076640"/>
            <a:ext cx="4030560" cy="24955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7"/>
          <p:cNvSpPr/>
          <p:nvPr/>
        </p:nvSpPr>
        <p:spPr>
          <a:xfrm>
            <a:off x="468360" y="522936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тог: Твоя жизнь не в твоих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C:\Users\Никита\Desktop\spa's_Wallpapers_pack_015-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Содержимое 3" descr=""/>
          <p:cNvPicPr/>
          <p:nvPr/>
        </p:nvPicPr>
        <p:blipFill>
          <a:blip r:embed="rId2"/>
          <a:stretch/>
        </p:blipFill>
        <p:spPr>
          <a:xfrm>
            <a:off x="304920" y="3108240"/>
            <a:ext cx="8265960" cy="379260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6" descr=""/>
          <p:cNvPicPr/>
          <p:nvPr/>
        </p:nvPicPr>
        <p:blipFill>
          <a:blip r:embed="rId3"/>
          <a:stretch/>
        </p:blipFill>
        <p:spPr>
          <a:xfrm>
            <a:off x="407880" y="133200"/>
            <a:ext cx="8328240" cy="115272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7" descr=""/>
          <p:cNvPicPr/>
          <p:nvPr/>
        </p:nvPicPr>
        <p:blipFill>
          <a:blip r:embed="rId4"/>
          <a:stretch/>
        </p:blipFill>
        <p:spPr>
          <a:xfrm>
            <a:off x="1755720" y="1212840"/>
            <a:ext cx="5462640" cy="1152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C:\Users\Никита\Desktop\12247849541307080526radacina_cursor_hand-svg-hi.png"/>
          <p:cNvPicPr/>
          <p:nvPr/>
        </p:nvPicPr>
        <p:blipFill>
          <a:blip r:embed="rId5"/>
          <a:stretch/>
        </p:blipFill>
        <p:spPr>
          <a:xfrm>
            <a:off x="3780000" y="7029360"/>
            <a:ext cx="99504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01875 C -0.0092 -0.03774 -0.01389 -0.09422 -0.02691 -0.13843 C -0.03993 -0.18264 -0.05486 -0.21482 -0.08299 -0.2463 C -0.11111 -0.27778 -0.17743 -0.31227 -0.19601 -0.32732 E">
                                      <p:cBhvr>
                                        <p:cTn id="146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79280" y="141300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дя на выборы, ты заявляешь всем, что тебе не безразлично свое будущее и будущее своей страны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дя на выборы, ты подтверждаешь, что вместе мы сила! Мы сильное государство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дя на выборы, ты открыто говоришь: «Я ответственный за себя и свою жизнь!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468360" y="5373720"/>
            <a:ext cx="43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тог: Ты высказал свою позицию как Гражданин своей стран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C:\Users\Никита\Desktop\77561586303636.jpg"/>
          <p:cNvPicPr/>
          <p:nvPr/>
        </p:nvPicPr>
        <p:blipFill>
          <a:blip r:embed="rId1"/>
          <a:stretch/>
        </p:blipFill>
        <p:spPr>
          <a:xfrm>
            <a:off x="5478480" y="4221000"/>
            <a:ext cx="3665520" cy="263700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6" descr=""/>
          <p:cNvPicPr/>
          <p:nvPr/>
        </p:nvPicPr>
        <p:blipFill>
          <a:blip r:embed="rId2"/>
          <a:stretch/>
        </p:blipFill>
        <p:spPr>
          <a:xfrm>
            <a:off x="73080" y="165240"/>
            <a:ext cx="9279000" cy="102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108000" y="3645000"/>
            <a:ext cx="3995640" cy="2997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179280" y="1341360"/>
            <a:ext cx="8715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менно в руках молодых находиться будущее стра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м дальше жить, учиться, работать, любить!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м изобретать, творить, находить свое место в жизни!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Прямоугольник 4" descr=""/>
          <p:cNvPicPr/>
          <p:nvPr/>
        </p:nvPicPr>
        <p:blipFill>
          <a:blip r:embed="rId2"/>
          <a:stretch/>
        </p:blipFill>
        <p:spPr>
          <a:xfrm>
            <a:off x="201600" y="133200"/>
            <a:ext cx="8766360" cy="115272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8"/>
          <p:cNvSpPr/>
          <p:nvPr/>
        </p:nvSpPr>
        <p:spPr>
          <a:xfrm>
            <a:off x="324000" y="299736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опрос: в каких условиях и по каким правил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9"/>
          <p:cNvSpPr/>
          <p:nvPr/>
        </p:nvSpPr>
        <p:spPr>
          <a:xfrm>
            <a:off x="4206960" y="4076640"/>
            <a:ext cx="493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должен сделать свой выбо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C:\Users\Никита\Desktop\CHECK.gif"/>
          <p:cNvPicPr/>
          <p:nvPr/>
        </p:nvPicPr>
        <p:blipFill>
          <a:blip r:embed="rId3"/>
          <a:stretch/>
        </p:blipFill>
        <p:spPr>
          <a:xfrm>
            <a:off x="7236000" y="4797360"/>
            <a:ext cx="1272960" cy="15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5000"/>
            <a:ext cx="8229600" cy="17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Плохие власти выбираются хорошими гражданами, которые не голосуют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ж. Д. Натан, американский политоло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C:\Users\Никита\Desktop\e2f4337fee6da6862503b88393c19e9b.jpg"/>
          <p:cNvPicPr/>
          <p:nvPr/>
        </p:nvPicPr>
        <p:blipFill>
          <a:blip r:embed="rId1"/>
          <a:stretch/>
        </p:blipFill>
        <p:spPr>
          <a:xfrm>
            <a:off x="4140360" y="3716280"/>
            <a:ext cx="4236840" cy="282096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5" descr=""/>
          <p:cNvPicPr/>
          <p:nvPr/>
        </p:nvPicPr>
        <p:blipFill>
          <a:blip r:embed="rId2"/>
          <a:stretch/>
        </p:blipFill>
        <p:spPr>
          <a:xfrm>
            <a:off x="1176480" y="566640"/>
            <a:ext cx="511488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3:42:45Z</dcterms:created>
  <dc:creator>Никита</dc:creator>
  <dc:description/>
  <dc:language>en-US</dc:language>
  <cp:lastModifiedBy>Никита</cp:lastModifiedBy>
  <dcterms:modified xsi:type="dcterms:W3CDTF">2012-02-27T18:20:47Z</dcterms:modified>
  <cp:revision>37</cp:revision>
  <dc:subject/>
  <dc:title>А ты идёшь голосовать?</dc:title>
</cp:coreProperties>
</file>